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7DE7-3093-4D1D-B66E-E487A54FC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46AC-1670-463D-B800-3491EA53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5024-5C5F-47D2-AFCE-53F5BFC38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4C2D-7FF8-4D0B-9CE0-12D4CF57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5BD2-261F-4028-9ED3-496C16EA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D33D-6D58-41A8-BC3F-F811719A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9BF8-F5F6-416E-A1F9-06857A9C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8142-8C87-4511-8698-D1A4D1D6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73EE-6084-4AB4-ABF7-00245E0D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AFA3-3880-4DBD-958D-7DCBB458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8314-D12C-4D70-AF63-D1FF033A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98EA-D198-49CC-ABBA-3DC75F9C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1CD1-E3CA-4409-B940-E634437B6DA9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54320" y="2819520"/>
            <a:ext cx="502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JES CON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68320" y="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Re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60948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5200" y="153036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129528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175896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1758960"/>
            <a:ext cx="9144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29960" y="145404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76520" y="152388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E%20HelicParal%20NomencResist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655344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68680" y="2819520"/>
            <a:ext cx="60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les Cónicos Espi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E%20Conicos%20Espirales%20Fzas" descr=""/>
          <p:cNvPicPr/>
          <p:nvPr/>
        </p:nvPicPr>
        <p:blipFill>
          <a:blip r:embed="rId1"/>
          <a:stretch/>
        </p:blipFill>
        <p:spPr>
          <a:xfrm>
            <a:off x="0" y="380880"/>
            <a:ext cx="4164120" cy="3419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004560" y="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fuer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30600" y="838080"/>
            <a:ext cx="76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609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86680" y="990720"/>
            <a:ext cx="59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62920" y="10666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6120" y="1447920"/>
            <a:ext cx="453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Espiral derecha giro horari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espiral izquierda giro anti-horar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93000" y="2479680"/>
            <a:ext cx="805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28560" y="225108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72320" y="263196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22800" y="27082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76480" y="2438280"/>
            <a:ext cx="350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91560" y="3352680"/>
            <a:ext cx="78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28560" y="312408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72320" y="350532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22800" y="35812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76480" y="3311640"/>
            <a:ext cx="350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1148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Espiral derecha giro horario y espiral izquierda giro anti-horar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05200" y="4883040"/>
            <a:ext cx="805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41120" y="465444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84520" y="503568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35360" y="511164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89760" y="4842000"/>
            <a:ext cx="361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04120" y="5756400"/>
            <a:ext cx="78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41120" y="552780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84520" y="590868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35360" y="59850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89040" y="5715000"/>
            <a:ext cx="350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814480" y="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Esfuerz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8520" y="76212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335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10666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9907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19810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1752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28600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22096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60400" y="175248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18288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81480" y="198108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E%20HelicParal%20Nomenc" descr=""/>
          <p:cNvPicPr/>
          <p:nvPr/>
        </p:nvPicPr>
        <p:blipFill>
          <a:blip r:embed="rId1"/>
          <a:stretch/>
        </p:blipFill>
        <p:spPr>
          <a:xfrm>
            <a:off x="1828800" y="2744640"/>
            <a:ext cx="52578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918520" y="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actor Geométrico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E%20Conicos%20Espirales%20J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24816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960640" y="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actor Geométric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E%20Conicos%20Espirales%20I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09624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562200" y="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Re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68580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5720" y="17524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151776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19810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1981080"/>
            <a:ext cx="9144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20120" y="167652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90720" y="99072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E%20HelicParal%20NomencResist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655308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93320" y="2819520"/>
            <a:ext cx="55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jes Cónicos R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430440" y="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E%20Conicos%20Rectos%20Ralaciones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4267440" cy="3970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753520" y="1406520"/>
            <a:ext cx="11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67720" y="11430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68800" y="167652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5840" y="2666880"/>
            <a:ext cx="11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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60960" y="240336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59880" y="293688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16765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28954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5400" y="3892680"/>
            <a:ext cx="7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`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3657600"/>
            <a:ext cx="87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62920" y="403848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411480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67640" y="4575240"/>
            <a:ext cx="610596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paso piñ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paso rue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número de dientes piñ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número de dientes rue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` : número virtual de dientes (aprox Tredg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: paso circular en el extremo mayor de 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E%20Conicos%20Rectos%20PrpDientes" descr=""/>
          <p:cNvPicPr/>
          <p:nvPr/>
        </p:nvPicPr>
        <p:blipFill>
          <a:blip r:embed="rId1"/>
          <a:stretch/>
        </p:blipFill>
        <p:spPr>
          <a:xfrm>
            <a:off x="1600200" y="685800"/>
            <a:ext cx="632448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04560" y="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fuer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30600" y="838080"/>
            <a:ext cx="76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86160" y="1746360"/>
            <a:ext cx="264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5760" y="4038480"/>
            <a:ext cx="651132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tangencial de la fuerza de cont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radial de la fuerza de cont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axial de la fuerza de cont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: par tor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ed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radio de paso en el punto medio del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p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%20Conicos%20Rectos%20Fzas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4309920" cy="3786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238880" y="609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86680" y="990720"/>
            <a:ext cx="59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10666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72200" y="243828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661560" y="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sfuerz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10605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75564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55480" y="1219320"/>
            <a:ext cx="9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2891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1654200"/>
            <a:ext cx="6400800" cy="55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esfuerzo flex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carga transmit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: paso diame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. de veloc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: ancho de cara (flex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J : factor geomé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eficiente elá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or de 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I : factor geométrico (durabilidad de superfic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a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or de seguridad de los engran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or de sobre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or de distribución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: factor de seguridad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99072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1480" y="76212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129528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12193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27280" y="76212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52880" y="838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0" y="99072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E%20Conicos%20Rectos%20Fact%20J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781680" cy="5473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918520" y="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actor Geométrico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709000" y="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oeficiente Elástico 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E%20Conicos%20Rectos%20Cp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84872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65320" y="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actor Geométric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E%20Conicos%20Rectos%20I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6705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1-10-10T21:40:58Z</dcterms:modified>
  <cp:revision>171</cp:revision>
  <dc:subject/>
  <dc:title>Sin título de diapositiva</dc:title>
</cp:coreProperties>
</file>